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497A-90A2-450C-B355-72B66A3EF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9600"/>
            <a:ext cx="7315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6511-260C-49ED-881F-18742B036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588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D695-1949-454C-ABA8-046CA92C9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0400" y="227628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3600" y="227628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960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0400" y="426960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3600" y="426960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6AC2-5765-4306-A60B-B8F12BD49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7458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2A43-940C-4CE3-BE1D-CFCE40DF2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0588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600"/>
            <a:ext cx="7315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269600"/>
            <a:ext cx="7315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0588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0400" y="227628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403600" y="227628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26960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0400" y="426960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403600" y="4269600"/>
            <a:ext cx="23551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9E2F-3472-4494-BF69-4F0E2027D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CD2F-C5A8-4F5D-97EF-023D77EFA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8E02-55F8-4501-A6B4-25112B35C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7458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950C-DEB8-4469-B0B3-E4341A42E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1F82-F58D-46CA-BA83-542145800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5880" y="426960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49F1-283F-40AF-A4D9-4F8CE636B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5880" y="2276280"/>
            <a:ext cx="3569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9600"/>
            <a:ext cx="7315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4E15-3D0B-4CF6-8683-55B035C0C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666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00720" y="61657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95E-65AB-43C2-98A0-F5A8DF65FF06}" type="slidenum"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3716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61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TERPERSONAL SKILL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e Three Ego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06668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rent- “Do as I 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ild- “What shall I do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dult- “I will be frank with you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cal conditions are irrelevant to these ego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ift from one ego state to another in trans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572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rent- “Why don’t you prepare a time-tabl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ild- “What is the point when one cannot follow it?” – Becomes an Ad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BBD0-6CF2-47D6-8F15-936993F85CB2}" type="slidenum">
              <a:t>10</a:t>
            </a:fld>
          </a:p>
        </p:txBody>
      </p:sp>
    </p:spTree>
  </p:cSld>
  <p:transition spd="med" advTm="8000">
    <p:cover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Ego Portra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ople have favorite, preferred ego state, depicted by larger circle in a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dul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733920"/>
            <a:ext cx="914400" cy="9144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952880"/>
            <a:ext cx="53316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15000"/>
            <a:ext cx="53316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809880"/>
            <a:ext cx="53316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4495680"/>
            <a:ext cx="914400" cy="9144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5638680"/>
            <a:ext cx="53316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3809880"/>
            <a:ext cx="53352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572000"/>
            <a:ext cx="53352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257800"/>
            <a:ext cx="914400" cy="9144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F471-0D76-4910-9332-AB2CE1203D3B}" type="slidenum">
              <a:t>11</a:t>
            </a:fld>
          </a:p>
        </p:txBody>
      </p:sp>
    </p:spTree>
  </p:cSld>
  <p:transition spd="med" advTm="8000">
    <p:cover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52280"/>
            <a:ext cx="7772400" cy="91440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tional Analysis – furth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rent &amp; child ego states sub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arent state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controlling or nurt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Child state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free child (FC) or adapted child 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C – a person conforms &amp; adapts to demand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C – a person acts &amp; feels like an uninhibited &amp; unsocialized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Adult state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current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A5D6-0AB2-4338-8378-3642304D65AB}" type="slidenum">
              <a:t>12</a:t>
            </a:fld>
          </a:p>
        </p:txBody>
      </p:sp>
    </p:spTree>
  </p:cSld>
  <p:transition spd="med" advTm="8000"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152280" y="-142920"/>
            <a:ext cx="82627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ransactional Analysis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9720" y="1063800"/>
            <a:ext cx="84250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en-US" sz="2400" spc="-1" strike="noStrike">
                <a:solidFill>
                  <a:srgbClr val="005452"/>
                </a:solidFill>
                <a:latin typeface="Arial Unicode MS"/>
              </a:rPr>
              <a:t>Transactional analysis (TA)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 method of understanding behavior in interpersonal 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three ego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480" indent="-198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5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itical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5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mpathetic/nurturing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480" indent="-198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5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atural child (affectionate play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5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dapted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480" indent="-198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three types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480" indent="-198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480" indent="-198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ro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480" indent="-198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l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DFF8-286B-4328-B84D-70A51EDCCA14}" type="slidenum">
              <a:t>13</a:t>
            </a:fld>
          </a:p>
        </p:txBody>
      </p:sp>
    </p:spTree>
  </p:cSld>
  <p:transition spd="med" advTm="8000">
    <p:cover dir="u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yp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Complementary Transaction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Appropriate and Expected Transactions indicating healthy human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cation takes place when transactions are complementary. A stimulus invites a response; this response becomes a stimulus inviting further response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A8BA-3C90-4C1C-8D04-0FBA76C6DABB}" type="slidenum">
              <a:t>14</a:t>
            </a:fld>
          </a:p>
        </p:txBody>
      </p:sp>
    </p:spTree>
  </p:cSld>
  <p:transition spd="med" advTm="8000">
    <p:cover dir="l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74600"/>
            <a:ext cx="82630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ransactional Analysis Types (I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360" y="1380960"/>
            <a:ext cx="84247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lementary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522440" y="2728800"/>
            <a:ext cx="342720" cy="1143000"/>
            <a:chOff x="1522440" y="2728800"/>
            <a:chExt cx="342720" cy="1143000"/>
          </a:xfrm>
        </p:grpSpPr>
        <p:sp>
          <p:nvSpPr>
            <p:cNvPr id="154" name=""/>
            <p:cNvSpPr/>
            <p:nvPr/>
          </p:nvSpPr>
          <p:spPr>
            <a:xfrm>
              <a:off x="1522440" y="272880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2440" y="352872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2440" y="312876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19640" y="2679840"/>
            <a:ext cx="342720" cy="1143000"/>
            <a:chOff x="6119640" y="2679840"/>
            <a:chExt cx="342720" cy="1143000"/>
          </a:xfrm>
        </p:grpSpPr>
        <p:sp>
          <p:nvSpPr>
            <p:cNvPr id="158" name=""/>
            <p:cNvSpPr/>
            <p:nvPr/>
          </p:nvSpPr>
          <p:spPr>
            <a:xfrm>
              <a:off x="6119640" y="267984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9640" y="347976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9640" y="307980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 flipV="1">
            <a:off x="1854360" y="2804760"/>
            <a:ext cx="4246560" cy="7398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54360" y="2930400"/>
            <a:ext cx="4221000" cy="765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AADC-7D90-43E3-8B32-9CC67C290425}" type="slidenum">
              <a:t>15</a:t>
            </a:fld>
          </a:p>
        </p:txBody>
      </p:sp>
    </p:spTree>
  </p:cSld>
  <p:transition spd="med" advTm="8000">
    <p:cover dir="lu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09480"/>
            <a:ext cx="7772400" cy="91440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75248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tional Analysis occurs when the ego states of 2 people interacting is ass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Complimentary interac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person in a nurturing parent ego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ther person in their adaptive child ego sta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8B5F-B36D-4F81-A982-C9425601628A}" type="slidenum">
              <a:t>16</a:t>
            </a:fld>
          </a:p>
        </p:txBody>
      </p:sp>
    </p:spTree>
  </p:cSld>
  <p:transition spd="med" advTm="8000"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320" y="304920"/>
            <a:ext cx="8534160" cy="83808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3470400"/>
            <a:ext cx="7594560" cy="258120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</p:pic>
      <p:sp>
        <p:nvSpPr>
          <p:cNvPr id="167" name=""/>
          <p:cNvSpPr/>
          <p:nvPr/>
        </p:nvSpPr>
        <p:spPr>
          <a:xfrm>
            <a:off x="76320" y="2057400"/>
            <a:ext cx="807696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leader-follower, the following complementary transactions could occ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D82F-5AD0-43F7-9D99-30F3F8ACA87E}" type="slidenum">
              <a:t>17</a:t>
            </a:fld>
          </a:p>
        </p:txBody>
      </p:sp>
    </p:spTree>
  </p:cSld>
  <p:transition spd="med" advTm="8000">
    <p:cover dir="ru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74600"/>
            <a:ext cx="82630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ransactional Analysis Type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2360" y="1380960"/>
            <a:ext cx="84247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ossed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73120" y="2765520"/>
            <a:ext cx="342720" cy="1143000"/>
            <a:chOff x="1473120" y="2765520"/>
            <a:chExt cx="342720" cy="1143000"/>
          </a:xfrm>
        </p:grpSpPr>
        <p:sp>
          <p:nvSpPr>
            <p:cNvPr id="171" name=""/>
            <p:cNvSpPr/>
            <p:nvPr/>
          </p:nvSpPr>
          <p:spPr>
            <a:xfrm>
              <a:off x="1473120" y="276552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3120" y="356544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73120" y="316548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70680" y="2728800"/>
            <a:ext cx="342720" cy="1143000"/>
            <a:chOff x="6070680" y="2728800"/>
            <a:chExt cx="342720" cy="1143000"/>
          </a:xfrm>
        </p:grpSpPr>
        <p:sp>
          <p:nvSpPr>
            <p:cNvPr id="175" name=""/>
            <p:cNvSpPr/>
            <p:nvPr/>
          </p:nvSpPr>
          <p:spPr>
            <a:xfrm>
              <a:off x="6070680" y="272880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0680" y="352872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0680" y="312876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828800" y="2895480"/>
            <a:ext cx="4191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5120" y="2895480"/>
            <a:ext cx="4114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706D-28C8-42EC-88A0-BE24E3027456}" type="slidenum">
              <a:t>18</a:t>
            </a:fld>
          </a:p>
        </p:txBody>
      </p:sp>
    </p:spTree>
  </p:cSld>
  <p:transition spd="med" advTm="8000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ypes of Transa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Crossed Transa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This causes most difficulties in soci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y be, you should improve your study habit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 always find fault with me whatever I do”  Parent-Child inte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30E4-A57A-40AD-B3BF-C7D7AED4E3CF}" type="slidenum">
              <a:t>19</a:t>
            </a:fld>
          </a:p>
        </p:txBody>
      </p:sp>
    </p:spTree>
  </p:cSld>
  <p:transition spd="med" advTm="8000">
    <p:zoom dir="in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Interpersonal Skill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Facilitation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s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ques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0574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language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nflic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00200" cy="209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125748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259056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4038480"/>
            <a:ext cx="137160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1A2C-7EE9-424E-9A56-E9BA714A2FCC}" type="slidenum">
              <a:t>2</a:t>
            </a:fld>
          </a:p>
        </p:txBody>
      </p:sp>
    </p:spTree>
  </p:cSld>
  <p:transition spd="med" advTm="8000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304920"/>
            <a:ext cx="7772400" cy="91440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14479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tional Analysis occurs when the ego states of 2 people interacting is assessed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’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Crossed trans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leader in the adult ego state deal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subordinate who responds from their free child ego state with somewhat negative, rejecting input from the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542B-FC39-431D-9ADF-FEE75690B531}" type="slidenum">
              <a:t>20</a:t>
            </a:fld>
          </a:p>
        </p:txBody>
      </p:sp>
    </p:spTree>
  </p:cSld>
  <p:transition spd="med" advTm="8000"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76320" y="457200"/>
            <a:ext cx="853452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2284560"/>
            <a:ext cx="7238880" cy="41479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</p:pic>
      <p:sp>
        <p:nvSpPr>
          <p:cNvPr id="186" name=""/>
          <p:cNvSpPr/>
          <p:nvPr/>
        </p:nvSpPr>
        <p:spPr>
          <a:xfrm>
            <a:off x="0" y="1523880"/>
            <a:ext cx="807732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leader-follower, there are a number of possible crossed trans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BB1B-C2C0-4B67-A2F6-84A9480BAAF1}" type="slidenum">
              <a:t>21</a:t>
            </a:fld>
          </a:p>
        </p:txBody>
      </p:sp>
    </p:spTree>
  </p:cSld>
  <p:transition spd="med" advTm="8000">
    <p:circl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74600"/>
            <a:ext cx="82630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ransactional Analysis Types (I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2360" y="1380960"/>
            <a:ext cx="84247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lterior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14368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98680" y="2728800"/>
            <a:ext cx="342720" cy="1143000"/>
            <a:chOff x="1498680" y="2728800"/>
            <a:chExt cx="342720" cy="1143000"/>
          </a:xfrm>
        </p:grpSpPr>
        <p:sp>
          <p:nvSpPr>
            <p:cNvPr id="190" name=""/>
            <p:cNvSpPr/>
            <p:nvPr/>
          </p:nvSpPr>
          <p:spPr>
            <a:xfrm>
              <a:off x="1498680" y="272880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8680" y="352872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98680" y="312876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8080" y="2690640"/>
            <a:ext cx="342720" cy="1143000"/>
            <a:chOff x="6058080" y="2690640"/>
            <a:chExt cx="342720" cy="1143000"/>
          </a:xfrm>
        </p:grpSpPr>
        <p:sp>
          <p:nvSpPr>
            <p:cNvPr id="194" name=""/>
            <p:cNvSpPr/>
            <p:nvPr/>
          </p:nvSpPr>
          <p:spPr>
            <a:xfrm>
              <a:off x="6058080" y="269064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58080" y="349056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8080" y="309060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535040" y="4745160"/>
            <a:ext cx="342720" cy="1143000"/>
            <a:chOff x="1535040" y="4745160"/>
            <a:chExt cx="342720" cy="1143000"/>
          </a:xfrm>
        </p:grpSpPr>
        <p:sp>
          <p:nvSpPr>
            <p:cNvPr id="198" name=""/>
            <p:cNvSpPr/>
            <p:nvPr/>
          </p:nvSpPr>
          <p:spPr>
            <a:xfrm>
              <a:off x="1535040" y="474516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5040" y="554508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35040" y="514512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119640" y="4719600"/>
            <a:ext cx="342720" cy="1143000"/>
            <a:chOff x="6119640" y="4719600"/>
            <a:chExt cx="342720" cy="1143000"/>
          </a:xfrm>
        </p:grpSpPr>
        <p:sp>
          <p:nvSpPr>
            <p:cNvPr id="202" name=""/>
            <p:cNvSpPr/>
            <p:nvPr/>
          </p:nvSpPr>
          <p:spPr>
            <a:xfrm>
              <a:off x="6119640" y="471960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9640" y="5519520"/>
              <a:ext cx="342720" cy="34308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9640" y="5119560"/>
              <a:ext cx="342720" cy="342720"/>
            </a:xfrm>
            <a:prstGeom prst="ellipse">
              <a:avLst/>
            </a:prstGeom>
            <a:solidFill>
              <a:srgbClr val="fce590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 flipV="1">
            <a:off x="1779480" y="2893680"/>
            <a:ext cx="4221360" cy="777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3320" y="4897440"/>
            <a:ext cx="4246560" cy="78912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878120" y="5286240"/>
            <a:ext cx="4246560" cy="1296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854000" y="4997160"/>
            <a:ext cx="4259160" cy="576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54360" y="2968560"/>
            <a:ext cx="4221000" cy="765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905120" y="2895480"/>
            <a:ext cx="4114800" cy="7621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0417-F6AD-4BE3-A0D5-D2E543AAA97C}" type="slidenum">
              <a:t>22</a:t>
            </a:fld>
          </a:p>
        </p:txBody>
      </p:sp>
    </p:spTree>
  </p:cSld>
  <p:transition spd="med" advTm="8000">
    <p:diamond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STROKE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Neutr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3EE4-4E84-4484-983E-BEA4922F7F45}" type="slidenum">
              <a:t>23</a:t>
            </a:fld>
          </a:p>
        </p:txBody>
      </p:sp>
    </p:spTree>
  </p:cSld>
  <p:transition spd="med" advTm="8000">
    <p:newsflash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UTILITY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9B94-6D81-4FF8-A1A9-D03FD2CE2A64}" type="slidenum">
              <a:t>24</a:t>
            </a:fld>
          </a:p>
        </p:txBody>
      </p:sp>
    </p:spTree>
  </p:cSld>
  <p:transition spd="med" advTm="8000">
    <p:newsflash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Interpersonal Ski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- BC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8000">
    <p:wedge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6080" y="-307800"/>
            <a:ext cx="7457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Building Positive Relationship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06020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Use of ‘I’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1924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Focus on problem solving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1924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Don’t Deceive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1924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mpathy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1924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Listen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19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</a:rPr>
              <a:t>Use of Praise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75200" indent="-182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Be specific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75200" indent="-182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Praise progress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75200" indent="-182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Sincere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75200" indent="-182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Don’t overdo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75200" indent="-182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Timing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marL="2192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EE0E-3B34-480E-A2B9-FA12BE6BD0C2}" type="slidenum">
              <a:t>26</a:t>
            </a:fld>
          </a:p>
        </p:txBody>
      </p:sp>
    </p:spTree>
  </p:cSld>
  <p:transition spd="med" advTm="8000">
    <p:fad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aling with Criticism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Understand the Reason behind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Empath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on’t personalize criticis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o not be Judgmen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o not overload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37F9-A5A9-4AB2-953B-EFE5DF82E8F0}" type="slidenum">
              <a:t>27</a:t>
            </a:fld>
          </a:p>
        </p:txBody>
      </p:sp>
    </p:spTree>
  </p:cSld>
  <p:transition spd="med" advTm="8000">
    <p:randomBar dir="horz"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EGOTIATION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8000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Steps Invol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2510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ersonal Relationship Buil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Exchanging Task-Related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ersua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1800-0F35-4595-81A4-7C45C6D8EB5A}" type="slidenum">
              <a:t>29</a:t>
            </a:fld>
          </a:p>
        </p:txBody>
      </p:sp>
    </p:spTree>
  </p:cSld>
  <p:transition spd="med" advTm="8000">
    <p:randomBar dir="vert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458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ESSENTIAL IP COMPETENCIES 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3152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elf awaren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knowledging the interests of subordin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59C7-DCC9-4B8E-A94D-57BE70EECDFF}" type="slidenum">
              <a:t>3</a:t>
            </a:fld>
          </a:p>
        </p:txBody>
      </p:sp>
    </p:spTree>
  </p:cSld>
  <p:transition spd="med" advTm="8000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700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egotiation Tactics &amp;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0224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uyer-Sell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treme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omises/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ing Si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91B6-9B32-4E65-8298-786B0C0F4801}" type="slidenum">
              <a:t>30</a:t>
            </a:fld>
          </a:p>
        </p:txBody>
      </p:sp>
    </p:spTree>
  </p:cSld>
  <p:transition spd="med" advTm="8000">
    <p:randomBar dir="horz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4581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DEVELOPING IP Skill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7315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eveloping Assertiven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epting Responsibil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anaging Conflic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void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ommodat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mpeting/Forc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llaborat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mpromi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8DFF-8110-4236-851E-7864001E187D}" type="slidenum">
              <a:t>4</a:t>
            </a:fld>
          </a:p>
        </p:txBody>
      </p:sp>
    </p:spTree>
  </p:cSld>
  <p:transition spd="med" advTm="8000"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263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Life 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" y="2117880"/>
            <a:ext cx="7695000" cy="3845520"/>
            <a:chOff x="228600" y="2117880"/>
            <a:chExt cx="7695000" cy="3845520"/>
          </a:xfrm>
        </p:grpSpPr>
        <p:grpSp>
          <p:nvGrpSpPr>
            <p:cNvPr id="95" name=""/>
            <p:cNvGrpSpPr/>
            <p:nvPr/>
          </p:nvGrpSpPr>
          <p:grpSpPr>
            <a:xfrm>
              <a:off x="2047680" y="2117880"/>
              <a:ext cx="5875920" cy="2754720"/>
              <a:chOff x="2047680" y="2117880"/>
              <a:chExt cx="5875920" cy="27547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047680" y="2117880"/>
                <a:ext cx="5875920" cy="2754720"/>
                <a:chOff x="2047680" y="2117880"/>
                <a:chExt cx="5875920" cy="27547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62960" y="2117880"/>
                  <a:ext cx="2960640" cy="1377360"/>
                </a:xfrm>
                <a:prstGeom prst="rect">
                  <a:avLst/>
                </a:prstGeom>
                <a:solidFill>
                  <a:srgbClr val="e5ad0f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962960" y="3495240"/>
                  <a:ext cx="2960640" cy="1377360"/>
                </a:xfrm>
                <a:prstGeom prst="rect">
                  <a:avLst/>
                </a:prstGeom>
                <a:solidFill>
                  <a:srgbClr val="f8c508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047680" y="3495240"/>
                  <a:ext cx="2959920" cy="1377360"/>
                </a:xfrm>
                <a:prstGeom prst="rect">
                  <a:avLst/>
                </a:prstGeom>
                <a:solidFill>
                  <a:srgbClr val="fce590"/>
                </a:solidFill>
                <a:ln w="0">
                  <a:noFill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047680" y="2117880"/>
                  <a:ext cx="2959920" cy="1377360"/>
                </a:xfrm>
                <a:prstGeom prst="rect">
                  <a:avLst/>
                </a:prstGeom>
                <a:solidFill>
                  <a:srgbClr val="f8c5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2461680" y="2359800"/>
                <a:ext cx="442656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I’m OK —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I’m OK 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You’re not O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You’re O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I’m not OK —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I’m not OK 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You’re not O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You’re O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rot="16200000">
              <a:off x="-930960" y="3364200"/>
              <a:ext cx="27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ttitude toward Onese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6640" y="5503680"/>
              <a:ext cx="26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ttitude toward Oth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20880" y="5015520"/>
              <a:ext cx="36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92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egativ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6600" y="2532240"/>
              <a:ext cx="105084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92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692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692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692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92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BA83-286D-41EC-9AC0-9EBBE15F73D0}" type="slidenum">
              <a:t>5</a:t>
            </a:fld>
          </a:p>
        </p:txBody>
      </p:sp>
    </p:spTree>
  </p:cSld>
  <p:transition spd="med" advTm="8000"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52280" y="0"/>
            <a:ext cx="863892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Management Conflict Sty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5960" y="1143000"/>
            <a:ext cx="7883280" cy="5714640"/>
            <a:chOff x="345960" y="1143000"/>
            <a:chExt cx="7883280" cy="5714640"/>
          </a:xfrm>
        </p:grpSpPr>
        <p:sp>
          <p:nvSpPr>
            <p:cNvPr id="108" name=""/>
            <p:cNvSpPr/>
            <p:nvPr/>
          </p:nvSpPr>
          <p:spPr>
            <a:xfrm>
              <a:off x="6964560" y="1397520"/>
              <a:ext cx="937440" cy="1200960"/>
            </a:xfrm>
            <a:prstGeom prst="ellipse">
              <a:avLst/>
            </a:prstGeom>
            <a:solidFill>
              <a:srgbClr val="f8c508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sser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4560" y="4127400"/>
              <a:ext cx="937440" cy="1201320"/>
            </a:xfrm>
            <a:prstGeom prst="ellipse">
              <a:avLst/>
            </a:prstGeom>
            <a:solidFill>
              <a:srgbClr val="f8c508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ggres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61440" y="2762280"/>
              <a:ext cx="1449000" cy="582120"/>
            </a:xfrm>
            <a:prstGeom prst="rect">
              <a:avLst/>
            </a:prstGeom>
            <a:solidFill>
              <a:srgbClr val="fce284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ccommod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30800" y="2762280"/>
              <a:ext cx="1449000" cy="582120"/>
            </a:xfrm>
            <a:prstGeom prst="rect">
              <a:avLst/>
            </a:prstGeom>
            <a:solidFill>
              <a:srgbClr val="fce284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ollabo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96120" y="3672360"/>
              <a:ext cx="1449000" cy="582120"/>
            </a:xfrm>
            <a:prstGeom prst="rect">
              <a:avLst/>
            </a:prstGeom>
            <a:solidFill>
              <a:srgbClr val="fce284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ompromi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61440" y="4600440"/>
              <a:ext cx="1449000" cy="582120"/>
            </a:xfrm>
            <a:prstGeom prst="rect">
              <a:avLst/>
            </a:prstGeom>
            <a:solidFill>
              <a:srgbClr val="fce284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voi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0800" y="4600440"/>
              <a:ext cx="1449000" cy="582120"/>
            </a:xfrm>
            <a:prstGeom prst="rect">
              <a:avLst/>
            </a:prstGeom>
            <a:solidFill>
              <a:srgbClr val="fce284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orc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0160" y="1397520"/>
              <a:ext cx="937440" cy="1200960"/>
            </a:xfrm>
            <a:prstGeom prst="ellipse">
              <a:avLst/>
            </a:prstGeom>
            <a:solidFill>
              <a:srgbClr val="f8c508"/>
            </a:solid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s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7400" y="2760120"/>
              <a:ext cx="124596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High con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for other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5872320"/>
              <a:ext cx="12096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ow con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for other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3560" y="5872320"/>
              <a:ext cx="124596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High con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for 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8320" y="2789640"/>
              <a:ext cx="0" cy="2839320"/>
            </a:xfrm>
            <a:prstGeom prst="line">
              <a:avLst/>
            </a:prstGeom>
            <a:ln w="2844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948320" y="5619960"/>
              <a:ext cx="4902480" cy="0"/>
            </a:xfrm>
            <a:prstGeom prst="line">
              <a:avLst/>
            </a:prstGeom>
            <a:ln w="2844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97960" y="1143000"/>
              <a:ext cx="1577160" cy="14378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’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ot OK 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You’re 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58960" y="1143000"/>
              <a:ext cx="1576800" cy="14378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’m OK 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You’re 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7680" y="5419800"/>
              <a:ext cx="1577160" cy="14378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’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ot OK 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You’re not 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2080" y="5419800"/>
              <a:ext cx="1577160" cy="143784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54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’m OK 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You’re not 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53AA-2DBA-41AC-B9EC-E9FBC166D487}" type="slidenum">
              <a:t>6</a:t>
            </a:fld>
          </a:p>
        </p:txBody>
      </p:sp>
    </p:spTree>
  </p:cSld>
  <p:transition spd="med" advTm="8000"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458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Factors Hampering Interpersonal Interaction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7315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oor Listen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Emotional Arous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Lack of Tim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ifferences in objectiv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B1FA-9217-45BF-BB6D-E70CC3012BFF}" type="slidenum">
              <a:t>7</a:t>
            </a:fld>
          </a:p>
        </p:txBody>
      </p:sp>
    </p:spTree>
  </p:cSld>
  <p:transition spd="med" advTm="8000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320" y="-152280"/>
            <a:ext cx="7772400" cy="83808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143000"/>
            <a:ext cx="7086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tional Analy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A unified system of individual and social psychia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cuses on the individual but also one’s relationship to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del for explaining why and h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ink like they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ct like they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teract/communicate with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0"/>
            <a:ext cx="7772400" cy="60948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ric Berne and Transaction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tion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ople have three ego states: parent, adult,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Parent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when a person thinks, feels &amp; behaves in ways copied from his/her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Child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thinking, feeling, behaving as one did as a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Adult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thoughts, feelings, or behaviors that are a direct result of current happe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Key point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eople shift in &amp; out of thes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6149-11CC-4BFE-9F62-9E61CA0F9F1F}" type="slidenum">
              <a:t>9</a:t>
            </a:fld>
          </a:p>
        </p:txBody>
      </p:sp>
    </p:spTree>
  </p:cSld>
  <p:transition spd="med" advTm="8000">
    <p:comb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35:42Z</dcterms:created>
  <dc:creator/>
  <dc:description/>
  <dc:language>en-US</dc:language>
  <cp:lastModifiedBy>user</cp:lastModifiedBy>
  <dcterms:modified xsi:type="dcterms:W3CDTF">2010-01-04T09:47:22Z</dcterms:modified>
  <cp:revision>0</cp:revision>
  <dc:subject/>
  <dc:title>INTERPERSONAL SKILLS</dc:title>
</cp:coreProperties>
</file>